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651B-5123-4386-92E0-65FBE9E7D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2758-3D56-4F0D-8B52-39FCFA9E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E1F8-7E3D-458C-A191-F86FADD79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3264-D190-421B-87BD-E6845E57E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CEA8-38FC-437D-99B5-B353DFC7D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4471-7C75-48F1-BA03-D64C61CE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0394-F8BB-4C9C-8336-3E011C2F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26D5C-95F2-4BAC-8747-9E7B73CE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97D29-8132-467C-B2CC-359EB6F1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2308-7C8E-4632-A8D6-41625D83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21E9-2127-4EF6-B269-82C48260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407C-19FD-4E74-B503-0C51D014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82E5-A068-4587-BB3A-D0478826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CADA-DA0D-42E3-A8C1-5130ABCD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1C437-5688-47E1-A58A-CBD816AB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0ADC-50B3-497E-B217-7A2660F1A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D8A3-4010-4AFD-B325-9EFE18CE2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85C89-758A-41E3-98B4-49EB52112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5C5F1-ADEB-464F-B57E-5DCD7E48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71466-9250-410C-B072-10A1170E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4524C-EAFC-40AF-BCBD-E9D2E22B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1CB98-69C6-4E31-8AF8-2524547F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B410-2F40-49A3-8F7A-50BA31A8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3EC58-C728-43B9-9436-2883DCCA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671D2-B6E0-4917-99A1-FC527DE4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C60F6-2FE5-4F73-B8A4-9E01AD26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885C6-ED2E-4809-9277-4685C8BB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7F3A3-D423-429D-801E-101DA0F7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8F963-DE8B-426F-B53F-BAF1D9F7B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FD438-94E1-4A67-AB6A-C0390A15E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5D028-7EF4-4BB9-A53E-A39FE8A56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97E53-C40B-4E99-9C1E-EF242758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B4F08-FF3F-4921-8844-387E4C2A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628E-D2B7-4478-BF4E-F233707B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EDA88-10A4-453A-BD98-BD22B2D5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4F169-9ECE-47C8-BDE4-2DC7A3E4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57151-BCBD-4B56-ADD9-288D138A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2E155-4E32-4B7A-A7BA-6CF9C9A2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BC82F-82FA-4F3F-9B4F-AA49B7BB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7ADA2-A2A6-4396-8FE3-00D24EA1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73E87-D20B-443B-BC6D-5CA4CF94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0E05B-E378-4C43-A3A4-225A8E05F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62624-0DE1-4E8F-B2FF-ECAE2C6AD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A9F58-E970-4DDF-ADE2-D753CD8F7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9CE8-3B89-47C5-8DC6-85A457C3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F6B59-D8DE-4367-998F-0979425A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E78DA-21CE-4633-87FB-9F770A45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7183D-FBA2-496F-9C78-86486D77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6011F-7232-4E05-9BA8-49CB9881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D61CB-B805-498E-BD3A-A0AC0E2E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A3B7A-0615-4239-B0F4-60790D8E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5065B-6013-4FE4-A581-F2FF8AF6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095FE-8083-4D1A-A1AD-05785280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FB5DB-8454-40DE-924E-DB543155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FD382-037A-40F9-BA9D-913E32F83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B8CA-6738-4EA6-BFD7-715E3A52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139E4-A7DC-4849-9E74-3AFB3B7D3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7ADB-861F-4F5D-8764-BC56A336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77C3-9761-4AD5-BEF6-42193F26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F3DD-BA3E-441D-B1BC-06AB0908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9A59-577D-4CE5-B8C1-7CD854302116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Bessaad &amp;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C548-C9F1-4D88-856B-CDE56118177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B87E-17A7-472A-BFF8-52678A630957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Bessaad &amp;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08C8-892D-4FEC-A449-C23934CFD3F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62BA-91B9-4BCD-BF4B-C35C5F579710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Bessaad &amp;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2152-CA23-4C7C-8897-5CB8890FA57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1BAF-8092-4183-BBF4-03600628017D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Bessaad &amp;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5638-8B09-44F8-B6DA-81E829C8F36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1E11-3120-4A9D-992F-154C6E5CEC59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Bessaad &amp;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944C-2C55-4B62-B9DA-0A6B9781E8E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990360" y="3200040"/>
            <a:ext cx="69339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1" i="1" lang="en-US" sz="3800" spc="-1" strike="noStrike">
                <a:solidFill>
                  <a:srgbClr val="000000"/>
                </a:solidFill>
                <a:latin typeface="Perpetua"/>
              </a:rPr>
              <a:t>Any Patient, Any Room, Any Time” </a:t>
            </a:r>
            <a:endParaRPr b="0" lang="en-US" sz="3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Presented by</a:t>
            </a: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Perpetua"/>
              </a:rPr>
              <a:t>Bao (Kelly) To 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Perpetua"/>
              </a:rPr>
              <a:t>Malek Bessaad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Perpetua"/>
              </a:rPr>
              <a:t>October 9, 2007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Franklin Gothic Book"/>
              </a:rPr>
              <a:t>Emergency Department </a:t>
            </a:r>
            <a:br>
              <a:rPr sz="3500"/>
            </a:br>
            <a:r>
              <a:rPr b="1" lang="en-US" sz="5500" spc="-1" strike="noStrike">
                <a:solidFill>
                  <a:srgbClr val="ffffff"/>
                </a:solidFill>
                <a:latin typeface="Cambria"/>
              </a:rPr>
              <a:t>Universal Room</a:t>
            </a:r>
            <a:endParaRPr b="0" lang="en-US" sz="55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808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Franklin Gothic Book"/>
              </a:rPr>
              <a:t>Design Considerat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3" name="Date Placeholder 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599F-347C-4597-AC4A-B596567538DB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Bessaad &amp;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AEE1-8F59-4684-811E-D7615D70E0B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Perpetua"/>
              </a:rPr>
              <a:t>Individual patient roo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Perpetua"/>
              </a:rPr>
              <a:t>Using effective lighting and colors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Perpetua"/>
              </a:rPr>
              <a:t>Flexibility in adjusting room pressu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Design &amp; allocate adequate storage space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Non-movable, semi-movable, and movable fixtur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Utilization of mobile specialization carts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Perpetua"/>
              </a:rPr>
              <a:t>Patient-centered desig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Perpetua"/>
              </a:rPr>
              <a:t>Healthcare personnel-centered desig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Perpetua"/>
              </a:rPr>
              <a:t>Standardization of room layou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3880" y="571500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Suture Cart</a:t>
            </a:r>
            <a:endParaRPr b="0" lang="en-US" sz="1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8" name="Date Placeholder 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ABF5-DF65-47C7-978F-71F3491D140C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Bessaad &amp;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00BD-8840-418F-AE03-8000FDF2BB6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itle 1"/>
          <p:cNvSpPr/>
          <p:nvPr/>
        </p:nvSpPr>
        <p:spPr>
          <a:xfrm>
            <a:off x="30492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7f7f"/>
                </a:solidFill>
                <a:latin typeface="Franklin Gothic Book"/>
              </a:rPr>
              <a:t>Design Considerations: </a:t>
            </a:r>
            <a:r>
              <a:rPr b="1" lang="en-US" sz="2100" spc="-1" strike="noStrike">
                <a:solidFill>
                  <a:srgbClr val="000000"/>
                </a:solidFill>
                <a:latin typeface="Franklin Gothic Book"/>
              </a:rPr>
              <a:t>Design &amp; Allocate Adequate Storage Spa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5" descr="C:\Users\My Ngoc\Desktop\pyxis.jpg"/>
          <p:cNvPicPr/>
          <p:nvPr/>
        </p:nvPicPr>
        <p:blipFill>
          <a:blip r:embed="rId1"/>
          <a:stretch/>
        </p:blipFill>
        <p:spPr>
          <a:xfrm>
            <a:off x="1295280" y="1049400"/>
            <a:ext cx="1447920" cy="2227320"/>
          </a:xfrm>
          <a:prstGeom prst="rect">
            <a:avLst/>
          </a:prstGeom>
          <a:ln w="0">
            <a:noFill/>
          </a:ln>
        </p:spPr>
      </p:pic>
      <p:sp>
        <p:nvSpPr>
          <p:cNvPr id="303" name="Title 1"/>
          <p:cNvSpPr/>
          <p:nvPr/>
        </p:nvSpPr>
        <p:spPr>
          <a:xfrm>
            <a:off x="685800" y="32767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Pyxis Medica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6" descr="C:\Users\My Ngoc\Desktop\GynoCart_Closed.jpg"/>
          <p:cNvPicPr/>
          <p:nvPr/>
        </p:nvPicPr>
        <p:blipFill>
          <a:blip r:embed="rId2"/>
          <a:stretch/>
        </p:blipFill>
        <p:spPr>
          <a:xfrm>
            <a:off x="6553080" y="4114800"/>
            <a:ext cx="1828800" cy="17668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8" descr="C:\Users\My Ngoc\Desktop\Ti Stuffs\universal room\med cart.jpg"/>
          <p:cNvPicPr/>
          <p:nvPr/>
        </p:nvPicPr>
        <p:blipFill>
          <a:blip r:embed="rId3"/>
          <a:stretch/>
        </p:blipFill>
        <p:spPr>
          <a:xfrm>
            <a:off x="1371600" y="4038480"/>
            <a:ext cx="1622520" cy="1694160"/>
          </a:xfrm>
          <a:prstGeom prst="rect">
            <a:avLst/>
          </a:prstGeom>
          <a:ln w="0">
            <a:noFill/>
          </a:ln>
        </p:spPr>
      </p:pic>
      <p:sp>
        <p:nvSpPr>
          <p:cNvPr id="306" name="Title 1"/>
          <p:cNvSpPr/>
          <p:nvPr/>
        </p:nvSpPr>
        <p:spPr>
          <a:xfrm>
            <a:off x="6705720" y="57913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Gyno C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3" descr="C:\Users\My Ngoc\Desktop\Ti Stuffs\universal room\fluids.jpg"/>
          <p:cNvPicPr/>
          <p:nvPr/>
        </p:nvPicPr>
        <p:blipFill>
          <a:blip r:embed="rId4"/>
          <a:stretch/>
        </p:blipFill>
        <p:spPr>
          <a:xfrm>
            <a:off x="4267080" y="4253040"/>
            <a:ext cx="1143000" cy="1601640"/>
          </a:xfrm>
          <a:prstGeom prst="rect">
            <a:avLst/>
          </a:prstGeom>
          <a:ln w="0">
            <a:noFill/>
          </a:ln>
        </p:spPr>
      </p:pic>
      <p:sp>
        <p:nvSpPr>
          <p:cNvPr id="308" name="Title 1"/>
          <p:cNvSpPr/>
          <p:nvPr/>
        </p:nvSpPr>
        <p:spPr>
          <a:xfrm>
            <a:off x="4191120" y="58672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Flu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Straight Arrow Connector 20"/>
          <p:cNvCxnSpPr/>
          <p:nvPr/>
        </p:nvCxnSpPr>
        <p:spPr>
          <a:xfrm>
            <a:off x="3048120" y="2133720"/>
            <a:ext cx="7624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0" name="Straight Arrow Connector 22"/>
          <p:cNvCxnSpPr/>
          <p:nvPr/>
        </p:nvCxnSpPr>
        <p:spPr>
          <a:xfrm flipV="1">
            <a:off x="3200400" y="3580560"/>
            <a:ext cx="91512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1" name="Straight Arrow Connector 24"/>
          <p:cNvCxnSpPr/>
          <p:nvPr/>
        </p:nvCxnSpPr>
        <p:spPr>
          <a:xfrm flipV="1">
            <a:off x="7160040" y="3582720"/>
            <a:ext cx="3960" cy="457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2" name="Straight Arrow Connector 26"/>
          <p:cNvCxnSpPr/>
          <p:nvPr/>
        </p:nvCxnSpPr>
        <p:spPr>
          <a:xfrm flipV="1">
            <a:off x="5104440" y="3580920"/>
            <a:ext cx="533880" cy="534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13" name="Picture 20" descr="C:\Users\My Ngoc\Desktop\ED.waukesha memorial hosp.jpg"/>
          <p:cNvPicPr/>
          <p:nvPr/>
        </p:nvPicPr>
        <p:blipFill>
          <a:blip r:embed="rId5"/>
          <a:stretch/>
        </p:blipFill>
        <p:spPr>
          <a:xfrm>
            <a:off x="4648320" y="838080"/>
            <a:ext cx="3352680" cy="2514600"/>
          </a:xfrm>
          <a:prstGeom prst="rect">
            <a:avLst/>
          </a:prstGeom>
          <a:ln w="0">
            <a:noFill/>
          </a:ln>
        </p:spPr>
      </p:pic>
      <p:sp>
        <p:nvSpPr>
          <p:cNvPr id="314" name="TextBox 21"/>
          <p:cNvSpPr/>
          <p:nvPr/>
        </p:nvSpPr>
        <p:spPr>
          <a:xfrm>
            <a:off x="5571000" y="3352680"/>
            <a:ext cx="197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ukesha Memorial hospit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28"/>
          <p:cNvSpPr/>
          <p:nvPr/>
        </p:nvSpPr>
        <p:spPr>
          <a:xfrm>
            <a:off x="1219320" y="2971800"/>
            <a:ext cx="6858000" cy="2440080"/>
          </a:xfrm>
          <a:prstGeom prst="rect">
            <a:avLst/>
          </a:prstGeom>
          <a:solidFill>
            <a:srgbClr val="d2e3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nefi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 patient transf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 nosocomial infe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 workload &amp; stress on nurs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aptable to different needs of varying diagno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bile carts avoid overcrowding of space &amp; reduction in stocked suppl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Franklin Gothic Book"/>
              </a:rPr>
              <a:t>Design Considerat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7" name="Date Placeholder 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6C13-80D4-48AE-BA26-CA1476DD8ECA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Bessaad &amp;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C384-4494-4125-8CDF-6F0ADED3737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Perpetua"/>
              </a:rPr>
              <a:t>Individual patient roo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Perpetua"/>
              </a:rPr>
              <a:t>Using effective lighting and colors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Perpetua"/>
              </a:rPr>
              <a:t>Flexibility in adjusting room pressu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Perpetua"/>
              </a:rPr>
              <a:t>Designating &amp; allocating adequate storage spa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Perpetua"/>
              </a:rPr>
              <a:t>Non-movable, semi-movable, and movable fixtures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Perpetua"/>
              </a:rPr>
              <a:t>Utilization of mobile specialization carts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Patient-centered design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Healthcare personnel-centered design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Perpetua"/>
              </a:rPr>
              <a:t>Standardization of room layou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914400" y="175248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3000"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4817"/>
                </a:solidFill>
                <a:latin typeface="Franklin Gothic Book"/>
              </a:rPr>
              <a:t>Tulane University Hospital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4817"/>
                </a:solidFill>
                <a:latin typeface="Franklin Gothic Book"/>
              </a:rPr>
              <a:t>Pavilions Project Community Hospita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23" name="Content Placeholder 21" descr="tulane.jpg"/>
          <p:cNvPicPr/>
          <p:nvPr/>
        </p:nvPicPr>
        <p:blipFill>
          <a:blip r:embed="rId1"/>
          <a:stretch/>
        </p:blipFill>
        <p:spPr>
          <a:xfrm>
            <a:off x="914400" y="2438280"/>
            <a:ext cx="3733920" cy="2498760"/>
          </a:xfrm>
          <a:prstGeom prst="rect">
            <a:avLst/>
          </a:prstGeom>
          <a:ln w="0">
            <a:noFill/>
          </a:ln>
        </p:spPr>
      </p:pic>
      <p:pic>
        <p:nvPicPr>
          <p:cNvPr id="324" name="Content Placeholder 22" descr="pavilions project.jpg"/>
          <p:cNvPicPr/>
          <p:nvPr/>
        </p:nvPicPr>
        <p:blipFill>
          <a:blip r:embed="rId2"/>
          <a:stretch/>
        </p:blipFill>
        <p:spPr>
          <a:xfrm>
            <a:off x="4952880" y="2438280"/>
            <a:ext cx="3733920" cy="2489400"/>
          </a:xfrm>
          <a:prstGeom prst="rect">
            <a:avLst/>
          </a:prstGeom>
          <a:ln w="0">
            <a:noFill/>
          </a:ln>
        </p:spPr>
      </p:pic>
      <p:sp>
        <p:nvSpPr>
          <p:cNvPr id="325" name="Date Placeholder 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14C9-898B-46E9-96ED-FACEBEECE5D1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Bessaad &amp;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DB54-A0CB-44CA-A225-6C0569E7D6D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itle 1"/>
          <p:cNvSpPr/>
          <p:nvPr/>
        </p:nvSpPr>
        <p:spPr>
          <a:xfrm>
            <a:off x="3049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Franklin Gothic Book"/>
              </a:rPr>
              <a:t>Design Considerations: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Patient-Centered Desig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Healthcare personnel-centered desig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13"/>
          <p:cNvSpPr/>
          <p:nvPr/>
        </p:nvSpPr>
        <p:spPr>
          <a:xfrm>
            <a:off x="1523880" y="3581280"/>
            <a:ext cx="6172200" cy="2440080"/>
          </a:xfrm>
          <a:prstGeom prst="rect">
            <a:avLst/>
          </a:prstGeom>
          <a:solidFill>
            <a:srgbClr val="d2e3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nefi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mote effective process fl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ducive friendly working atmosp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 in patient safety and quality 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ff attraction and ret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tient satisfaction &amp; ret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Franklin Gothic Book"/>
              </a:rPr>
              <a:t>Design Considerat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1" name="Date Placeholder 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D858-C681-4075-8BA9-B1F8E4C6574F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Bessaad &amp;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0A3C-B27C-41CC-8BB1-E085E4DCE95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Perpetua"/>
              </a:rPr>
              <a:t>Individual patient roo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Perpetua"/>
              </a:rPr>
              <a:t>Using effective lighting and colors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Perpetua"/>
              </a:rPr>
              <a:t>Flexibility in adjusting room pressu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Perpetua"/>
              </a:rPr>
              <a:t>Designating &amp; allocating adequate storage sp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Perpetua"/>
              </a:rPr>
              <a:t>Non-movable, semi-movable, and movable fixtur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Perpetua"/>
              </a:rPr>
              <a:t>Utilization of mobile specialization carts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Perpetua"/>
              </a:rPr>
              <a:t>Patient-centered desig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Perpetua"/>
              </a:rPr>
              <a:t>Healthcare personnel-centered desig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Standardization of room layout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Date Placeholder 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1E49-ABDA-4DD7-A8C7-EEB3041742AE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Bessaad &amp;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9863-B75B-4384-8CBA-86481C8A59C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itle 1"/>
          <p:cNvSpPr/>
          <p:nvPr/>
        </p:nvSpPr>
        <p:spPr>
          <a:xfrm>
            <a:off x="30492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f7f7f"/>
                </a:solidFill>
                <a:latin typeface="Franklin Gothic Book"/>
              </a:rPr>
              <a:t>Design Considerations: </a:t>
            </a:r>
            <a:r>
              <a:rPr b="1" lang="en-US" sz="2300" spc="-1" strike="noStrike">
                <a:solidFill>
                  <a:srgbClr val="000000"/>
                </a:solidFill>
                <a:latin typeface="Franklin Gothic Book"/>
              </a:rPr>
              <a:t>Standardization of Room Layou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1"/>
          <p:cNvSpPr/>
          <p:nvPr/>
        </p:nvSpPr>
        <p:spPr>
          <a:xfrm>
            <a:off x="457200" y="1447920"/>
            <a:ext cx="2590920" cy="27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f8c6a"/>
                </a:solidFill>
                <a:latin typeface="Arial"/>
              </a:rPr>
              <a:t>Standard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om dimen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cement of furni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ies &amp; equipment sto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e orient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2" descr="C:\Users\My Ngoc\Desktop\Ti Stuffs\universal room\universal room floor layout.jpg"/>
          <p:cNvPicPr/>
          <p:nvPr/>
        </p:nvPicPr>
        <p:blipFill>
          <a:blip r:embed="rId1"/>
          <a:srcRect l="0" t="0" r="15911" b="85"/>
          <a:stretch/>
        </p:blipFill>
        <p:spPr>
          <a:xfrm>
            <a:off x="3200400" y="838080"/>
            <a:ext cx="5638680" cy="5029200"/>
          </a:xfrm>
          <a:prstGeom prst="rect">
            <a:avLst/>
          </a:prstGeom>
          <a:ln w="0">
            <a:noFill/>
          </a:ln>
        </p:spPr>
      </p:pic>
      <p:sp>
        <p:nvSpPr>
          <p:cNvPr id="341" name="TextBox 12"/>
          <p:cNvSpPr/>
          <p:nvPr/>
        </p:nvSpPr>
        <p:spPr>
          <a:xfrm>
            <a:off x="1295280" y="3276720"/>
            <a:ext cx="6858000" cy="2440080"/>
          </a:xfrm>
          <a:prstGeom prst="rect">
            <a:avLst/>
          </a:prstGeom>
          <a:solidFill>
            <a:srgbClr val="d2e3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nefi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vent staff confus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 time spent on searching for suppl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esp. important during sur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 patient safety from reduction of inefficient work-flow induced err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Date Placeholder 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61A4-8F76-477A-A57E-6527CA4A09A8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Bessaad &amp;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FA62-83EE-48E3-B588-7F6E2CC43E5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914040" y="17521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dividual patient roo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ing effective lighting and colors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lexibility in adjusting room pressu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signating &amp; allocating adequate storage sp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Non-movable, semi-movable, and movable fixtur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Utilization of mobile specialization carts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atient-centered design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ealthcare personnel-centered design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andardization of room layou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Universal Room Design </a:t>
            </a:r>
            <a:br>
              <a:rPr sz="3600"/>
            </a:br>
            <a:r>
              <a:rPr b="1" i="1" lang="en-US" sz="3000" spc="-1" strike="noStrike">
                <a:solidFill>
                  <a:srgbClr val="000000"/>
                </a:solidFill>
                <a:latin typeface="Perpetua"/>
              </a:rPr>
              <a:t>“Any Patient, Any Room, Any Time”</a:t>
            </a:r>
            <a:endParaRPr b="0" lang="en-US" sz="3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7" name="TextBox 7"/>
          <p:cNvSpPr/>
          <p:nvPr/>
        </p:nvSpPr>
        <p:spPr>
          <a:xfrm>
            <a:off x="1143000" y="2895480"/>
            <a:ext cx="6705720" cy="23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0000"/>
                </a:solidFill>
                <a:latin typeface="Angsana New"/>
                <a:ea typeface="Angsana New"/>
              </a:rPr>
              <a:t>What’s so exciting about this particular universal room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8"/>
          <p:cNvSpPr/>
          <p:nvPr/>
        </p:nvSpPr>
        <p:spPr>
          <a:xfrm>
            <a:off x="1066680" y="1676520"/>
            <a:ext cx="7239240" cy="420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df6c5d"/>
                </a:solidFill>
                <a:uFillTx/>
                <a:latin typeface="Arial"/>
              </a:rPr>
              <a:t>Goals &amp; Objec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room that can accommodate for varying diagnosis and promote quality healthca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chitecture that is both sensitive to technological advances and industrial engineering optimization processes (ex: work-flow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ion of a therapeutic environment through interior design that utilizes lighting and col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3276720" cy="1036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Franklin Gothic Book"/>
              </a:rPr>
              <a:t>Questions 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0" name="Date Placeholder 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B89F-29EB-4457-AEAA-F5A62AEF46B9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Bessaad &amp;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5C3B-B7F9-435C-93C7-92125E93F7A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" descr="C:\Users\My Ngoc\Desktop\Ti Stuffs\universal room\intense colors.jpg"/>
          <p:cNvPicPr/>
          <p:nvPr/>
        </p:nvPicPr>
        <p:blipFill>
          <a:blip r:embed="rId1"/>
          <a:stretch/>
        </p:blipFill>
        <p:spPr>
          <a:xfrm>
            <a:off x="380880" y="1676520"/>
            <a:ext cx="3086280" cy="4114800"/>
          </a:xfrm>
          <a:prstGeom prst="rect">
            <a:avLst/>
          </a:prstGeom>
          <a:ln w="0">
            <a:noFill/>
          </a:ln>
        </p:spPr>
      </p:pic>
      <p:sp>
        <p:nvSpPr>
          <p:cNvPr id="354" name="TextBox 7"/>
          <p:cNvSpPr/>
          <p:nvPr/>
        </p:nvSpPr>
        <p:spPr>
          <a:xfrm>
            <a:off x="3638160" y="4191120"/>
            <a:ext cx="537768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ntac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o (Kelly) To: </a:t>
            </a:r>
            <a:r>
              <a:rPr b="1" lang="en-US" sz="2000" spc="-1" strike="noStrike">
                <a:solidFill>
                  <a:srgbClr val="6701fd"/>
                </a:solidFill>
                <a:latin typeface="Arial"/>
              </a:rPr>
              <a:t>bto@gatech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ek Bessaad: </a:t>
            </a:r>
            <a:r>
              <a:rPr b="1" lang="en-US" sz="2000" spc="-1" strike="noStrike">
                <a:solidFill>
                  <a:srgbClr val="6701fd"/>
                </a:solidFill>
                <a:latin typeface="Arial"/>
              </a:rPr>
              <a:t>malek.bessaad@gmai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Proposal Outlin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Date Placeholder 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3F73-6480-43EF-85CC-4F1380611B97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Bessaad &amp;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50BB-E763-4E11-8DFA-C200B4EBB8C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dividual patient roo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ing effective lighting and colors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lexibility in adjusting room pressu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signating &amp; allocating adequate storage sp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Non-movable, semi-movable, and movable fixtur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Utilization of mobile specialization carts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atient-centered desig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ealthcare personnel-centered desig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andardization of room layou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Ques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808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Franklin Gothic Book"/>
              </a:rPr>
              <a:t>Design Considerat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Date Placeholder 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1991-E654-43FC-B854-E4D40ABAE38B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Bessaad &amp;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E51B-7FA0-4E28-88F2-3E00BE7E04B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Individual patient room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Perpetua"/>
              </a:rPr>
              <a:t>Using effective lighting and colors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Perpetua"/>
              </a:rPr>
              <a:t>Flexibility in adjusting room pressu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Perpetua"/>
              </a:rPr>
              <a:t>Designating &amp; allocating adequate storage sp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Perpetua"/>
              </a:rPr>
              <a:t>Non-movable, semi-movable, and movable fixtur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Perpetua"/>
              </a:rPr>
              <a:t>Utilization of mobile specialization carts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Perpetua"/>
              </a:rPr>
              <a:t>Patient-centered design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Perpetua"/>
              </a:rPr>
              <a:t>Healthcare personnel-centered design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Perpetua"/>
              </a:rPr>
              <a:t>Standardization of room layou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f7f7f"/>
                </a:solidFill>
                <a:latin typeface="Franklin Gothic Book"/>
              </a:rPr>
              <a:t>Design Considerations: </a:t>
            </a:r>
            <a:r>
              <a:rPr b="1" lang="en-US" sz="2300" spc="-1" strike="noStrike">
                <a:solidFill>
                  <a:srgbClr val="000000"/>
                </a:solidFill>
                <a:latin typeface="Franklin Gothic Book"/>
              </a:rPr>
              <a:t>Individual Patient Rooms</a:t>
            </a:r>
            <a:endParaRPr b="0" lang="en-US" sz="2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Date Placeholder 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D783-E929-4395-A815-4524588AD065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Bessaad &amp;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8140-467D-4B4B-B03A-BB9DD565EC6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2" descr="C:\Users\My Ngoc\Desktop\Ti Stuffs\universal room\universal room floor layout.jpg"/>
          <p:cNvPicPr/>
          <p:nvPr/>
        </p:nvPicPr>
        <p:blipFill>
          <a:blip r:embed="rId1"/>
          <a:stretch/>
        </p:blipFill>
        <p:spPr>
          <a:xfrm>
            <a:off x="1143000" y="914400"/>
            <a:ext cx="6705720" cy="5033880"/>
          </a:xfrm>
          <a:prstGeom prst="rect">
            <a:avLst/>
          </a:prstGeom>
          <a:ln w="0">
            <a:noFill/>
          </a:ln>
        </p:spPr>
      </p:pic>
      <p:sp>
        <p:nvSpPr>
          <p:cNvPr id="245" name="TextBox 7"/>
          <p:cNvSpPr/>
          <p:nvPr/>
        </p:nvSpPr>
        <p:spPr>
          <a:xfrm>
            <a:off x="1676520" y="4191120"/>
            <a:ext cx="5105160" cy="1769760"/>
          </a:xfrm>
          <a:prstGeom prst="rect">
            <a:avLst/>
          </a:prstGeom>
          <a:solidFill>
            <a:srgbClr val="d2e3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nefi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 patient priva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 patient satisfac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ise re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8"/>
          <p:cNvSpPr/>
          <p:nvPr/>
        </p:nvSpPr>
        <p:spPr>
          <a:xfrm>
            <a:off x="1752840" y="5943600"/>
            <a:ext cx="586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awlings, S. et al. Beyond the universal patient room. www.healthcaredesignmagazine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808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Franklin Gothic Book"/>
              </a:rPr>
              <a:t>Design Considerat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Date Placeholder 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2AA1-44B1-4BAD-A644-61CE4568DAB8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Bessaad &amp;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9C1E-E389-43B7-B7D1-4210D2869D1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Perpetua"/>
              </a:rPr>
              <a:t>Individual patient roo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Using effective lighting and colors  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Perpetua"/>
              </a:rPr>
              <a:t>Flexibility in adjusting room pressu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Perpetua"/>
              </a:rPr>
              <a:t>Designating &amp; allocating adequate storage sp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492480" indent="-20556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Perpetua"/>
              </a:rPr>
              <a:t>Non-movable, semi-movable, and movable fixtur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92480" indent="-20556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Perpetua"/>
              </a:rPr>
              <a:t>Utilization of mobile specialization carts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Perpetua"/>
              </a:rPr>
              <a:t>Patient-centered desig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Perpetua"/>
              </a:rPr>
              <a:t>Healthcare personnel-centered desig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Perpetua"/>
              </a:rPr>
              <a:t>Standardization of room layou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42640" y="990720"/>
            <a:ext cx="3048120" cy="380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mbria"/>
              </a:rPr>
              <a:t>Psychology of </a:t>
            </a:r>
            <a:r>
              <a:rPr b="1" i="1" lang="en-US" sz="2000" spc="-1" strike="noStrike">
                <a:solidFill>
                  <a:srgbClr val="00b050"/>
                </a:solidFill>
                <a:latin typeface="Cambria"/>
              </a:rPr>
              <a:t>C</a:t>
            </a:r>
            <a:r>
              <a:rPr b="1" i="1" lang="en-US" sz="2000" spc="-1" strike="noStrike">
                <a:solidFill>
                  <a:srgbClr val="ff0000"/>
                </a:solidFill>
                <a:latin typeface="Cambria"/>
              </a:rPr>
              <a:t>o</a:t>
            </a:r>
            <a:r>
              <a:rPr b="1" i="1" lang="en-US" sz="2000" spc="-1" strike="noStrike">
                <a:solidFill>
                  <a:srgbClr val="0070c0"/>
                </a:solidFill>
                <a:latin typeface="Cambria"/>
              </a:rPr>
              <a:t>l</a:t>
            </a:r>
            <a:r>
              <a:rPr b="1" i="1" lang="en-US" sz="2000" spc="-1" strike="noStrike">
                <a:solidFill>
                  <a:srgbClr val="ffc000"/>
                </a:solidFill>
                <a:latin typeface="Cambria"/>
              </a:rPr>
              <a:t>o</a:t>
            </a:r>
            <a:r>
              <a:rPr b="1" i="1" lang="en-US" sz="2000" spc="-1" strike="noStrike">
                <a:solidFill>
                  <a:srgbClr val="7030a0"/>
                </a:solidFill>
                <a:latin typeface="Cambria"/>
              </a:rPr>
              <a:t>r</a:t>
            </a:r>
            <a:r>
              <a:rPr b="1" i="1" lang="en-US" sz="2000" spc="-1" strike="noStrike">
                <a:solidFill>
                  <a:srgbClr val="9b2d1f"/>
                </a:solidFill>
                <a:latin typeface="Cambria"/>
              </a:rPr>
              <a:t>s</a:t>
            </a:r>
            <a:r>
              <a:rPr b="1" i="1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B73B-2FCB-4822-8586-577DD5369E33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5094-3B0C-4092-886D-F878152E68D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Bessaad &amp;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C:\Users\My Ngoc\Desktop\Ti Stuffs\universal room\ColorWheelText_NEW_400pxl.jpg"/>
          <p:cNvPicPr/>
          <p:nvPr/>
        </p:nvPicPr>
        <p:blipFill>
          <a:blip r:embed="rId1"/>
          <a:stretch/>
        </p:blipFill>
        <p:spPr>
          <a:xfrm>
            <a:off x="457200" y="1371600"/>
            <a:ext cx="4376880" cy="43434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C:\Users\My Ngoc\Desktop\Ti Stuffs\universal room\brain_colors.jpg"/>
          <p:cNvPicPr/>
          <p:nvPr/>
        </p:nvPicPr>
        <p:blipFill>
          <a:blip r:embed="rId2"/>
          <a:stretch/>
        </p:blipFill>
        <p:spPr>
          <a:xfrm>
            <a:off x="5029200" y="3886200"/>
            <a:ext cx="2286000" cy="2657520"/>
          </a:xfrm>
          <a:prstGeom prst="rect">
            <a:avLst/>
          </a:prstGeom>
          <a:ln w="0">
            <a:noFill/>
          </a:ln>
        </p:spPr>
      </p:pic>
      <p:sp>
        <p:nvSpPr>
          <p:cNvPr id="258" name="Title 1"/>
          <p:cNvSpPr/>
          <p:nvPr/>
        </p:nvSpPr>
        <p:spPr>
          <a:xfrm>
            <a:off x="30492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f7f7f"/>
                </a:solidFill>
                <a:latin typeface="Franklin Gothic Book"/>
              </a:rPr>
              <a:t>Design Considerations: </a:t>
            </a:r>
            <a:r>
              <a:rPr b="1" lang="en-US" sz="2300" spc="-1" strike="noStrike">
                <a:solidFill>
                  <a:srgbClr val="000000"/>
                </a:solidFill>
                <a:latin typeface="Franklin Gothic Book"/>
              </a:rPr>
              <a:t>Using Effective Lighting &amp; Col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6" descr="C:\Users\My Ngoc\Desktop\Ti Stuffs\universal room\psychology.light.jpg"/>
          <p:cNvPicPr/>
          <p:nvPr/>
        </p:nvPicPr>
        <p:blipFill>
          <a:blip r:embed="rId3"/>
          <a:stretch/>
        </p:blipFill>
        <p:spPr>
          <a:xfrm>
            <a:off x="6172200" y="914400"/>
            <a:ext cx="2590920" cy="2760840"/>
          </a:xfrm>
          <a:prstGeom prst="rect">
            <a:avLst/>
          </a:prstGeom>
          <a:ln w="0">
            <a:noFill/>
          </a:ln>
        </p:spPr>
      </p:pic>
      <p:cxnSp>
        <p:nvCxnSpPr>
          <p:cNvPr id="260" name="Straight Arrow Connector 14"/>
          <p:cNvCxnSpPr/>
          <p:nvPr/>
        </p:nvCxnSpPr>
        <p:spPr>
          <a:xfrm flipH="1">
            <a:off x="7467120" y="3809520"/>
            <a:ext cx="457920" cy="839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1" name="Straight Arrow Connector 16"/>
          <p:cNvCxnSpPr/>
          <p:nvPr/>
        </p:nvCxnSpPr>
        <p:spPr>
          <a:xfrm>
            <a:off x="4114800" y="5334120"/>
            <a:ext cx="8388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3790-3B70-4EB5-8BDC-E2402D208968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Bessaad &amp;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AA35-2540-4BFF-9C6A-0F268DF3A93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itle 1"/>
          <p:cNvSpPr/>
          <p:nvPr/>
        </p:nvSpPr>
        <p:spPr>
          <a:xfrm>
            <a:off x="30492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f7f7f"/>
                </a:solidFill>
                <a:latin typeface="Franklin Gothic Book"/>
              </a:rPr>
              <a:t>Design Considerations: </a:t>
            </a:r>
            <a:r>
              <a:rPr b="1" lang="en-US" sz="2300" spc="-1" strike="noStrike">
                <a:solidFill>
                  <a:srgbClr val="000000"/>
                </a:solidFill>
                <a:latin typeface="Franklin Gothic Book"/>
              </a:rPr>
              <a:t>Using Effective Lighting &amp; Col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3"/>
          <p:cNvSpPr/>
          <p:nvPr/>
        </p:nvSpPr>
        <p:spPr>
          <a:xfrm>
            <a:off x="609480" y="4114800"/>
            <a:ext cx="8153640" cy="1769760"/>
          </a:xfrm>
          <a:prstGeom prst="rect">
            <a:avLst/>
          </a:prstGeom>
          <a:solidFill>
            <a:srgbClr val="d2e3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nefit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ysical and emotional Comf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erience person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 or eliminate environmental stress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 positive distr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7"/>
          <p:cNvGrpSpPr/>
          <p:nvPr/>
        </p:nvGrpSpPr>
        <p:grpSpPr>
          <a:xfrm>
            <a:off x="609480" y="1066680"/>
            <a:ext cx="8001000" cy="2319120"/>
            <a:chOff x="609480" y="1066680"/>
            <a:chExt cx="8001000" cy="2319120"/>
          </a:xfrm>
        </p:grpSpPr>
        <p:pic>
          <p:nvPicPr>
            <p:cNvPr id="268" name="Picture 2" descr="C:\Users\My Ngoc\Desktop\Ti Stuffs\universal room\decorative lights.jpg"/>
            <p:cNvPicPr/>
            <p:nvPr/>
          </p:nvPicPr>
          <p:blipFill>
            <a:blip r:embed="rId1"/>
            <a:stretch/>
          </p:blipFill>
          <p:spPr>
            <a:xfrm>
              <a:off x="6400800" y="1066680"/>
              <a:ext cx="2209680" cy="16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3" descr="C:\Users\My Ngoc\Desktop\Ti Stuffs\universal room\ambient light.jpg"/>
            <p:cNvPicPr/>
            <p:nvPr/>
          </p:nvPicPr>
          <p:blipFill>
            <a:blip r:embed="rId2"/>
            <a:stretch/>
          </p:blipFill>
          <p:spPr>
            <a:xfrm>
              <a:off x="609480" y="1066680"/>
              <a:ext cx="228600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" descr="C:\Users\My Ngoc\Desktop\Ti Stuffs\universal room\focal light.jpg"/>
            <p:cNvPicPr/>
            <p:nvPr/>
          </p:nvPicPr>
          <p:blipFill>
            <a:blip r:embed="rId3"/>
            <a:stretch/>
          </p:blipFill>
          <p:spPr>
            <a:xfrm>
              <a:off x="3504960" y="1066680"/>
              <a:ext cx="23148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TextBox 14"/>
            <p:cNvSpPr/>
            <p:nvPr/>
          </p:nvSpPr>
          <p:spPr>
            <a:xfrm>
              <a:off x="6400800" y="2724120"/>
              <a:ext cx="220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corative Ligh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sonal touch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Box 15"/>
            <p:cNvSpPr/>
            <p:nvPr/>
          </p:nvSpPr>
          <p:spPr>
            <a:xfrm>
              <a:off x="3445560" y="2742840"/>
              <a:ext cx="241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cal Ligh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cus; high intensity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Box 16"/>
            <p:cNvSpPr/>
            <p:nvPr/>
          </p:nvSpPr>
          <p:spPr>
            <a:xfrm>
              <a:off x="850320" y="2743200"/>
              <a:ext cx="187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mbient Ligh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od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Rectangle 14"/>
          <p:cNvSpPr/>
          <p:nvPr/>
        </p:nvSpPr>
        <p:spPr>
          <a:xfrm>
            <a:off x="838080" y="342900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e3611"/>
                </a:solidFill>
                <a:latin typeface="Angsana New"/>
                <a:ea typeface="Angsana New"/>
              </a:rPr>
              <a:t>Therapeutic environment: psycho-socially suppor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808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Franklin Gothic Book"/>
              </a:rPr>
              <a:t>Design Considerat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6" name="Date Placeholder 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EA62-B84E-4A0B-9EAF-838B0DABFB06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Bessaad &amp;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406B-AD20-45D1-B219-153207FB70C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Perpetua"/>
              </a:rPr>
              <a:t>Individual patient roo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Perpetua"/>
              </a:rPr>
              <a:t>Using effective lighting and colors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Flexibility in adjusting room pressure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Perpetua"/>
              </a:rPr>
              <a:t>Designating &amp; allocating adequate storage sp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Perpetua"/>
              </a:rPr>
              <a:t>Non-movable, semi-movable, and movable fixtur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Perpetua"/>
              </a:rPr>
              <a:t>Utilization of mobile specialization carts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Perpetua"/>
              </a:rPr>
              <a:t>Patient-centered desig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Perpetua"/>
              </a:rPr>
              <a:t>Healthcare personnel-centered desig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Perpetua"/>
              </a:rPr>
              <a:t>Standardization of room layou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609480" y="685440"/>
            <a:ext cx="3733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4817"/>
                </a:solidFill>
                <a:latin typeface="Franklin Gothic Book"/>
              </a:rPr>
              <a:t>Positive Pressu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647960" y="685440"/>
            <a:ext cx="37335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4817"/>
                </a:solidFill>
                <a:latin typeface="Franklin Gothic Book"/>
              </a:rPr>
              <a:t>Negative Pressu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2" name="Date Placeholder 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1B64-E959-4DD1-B37C-6B678DE01611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Bessaad &amp;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DB4F-E880-40A0-8DA2-095C4A86079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Content Placeholder 12" descr="positive_illustration.jpg"/>
          <p:cNvPicPr/>
          <p:nvPr/>
        </p:nvPicPr>
        <p:blipFill>
          <a:blip r:embed="rId1"/>
          <a:stretch/>
        </p:blipFill>
        <p:spPr>
          <a:xfrm>
            <a:off x="609480" y="1447920"/>
            <a:ext cx="3733920" cy="3789360"/>
          </a:xfrm>
          <a:prstGeom prst="rect">
            <a:avLst/>
          </a:prstGeom>
          <a:ln w="0">
            <a:noFill/>
          </a:ln>
        </p:spPr>
      </p:pic>
      <p:pic>
        <p:nvPicPr>
          <p:cNvPr id="286" name="Content Placeholder 13" descr="negative_illustration.jpg"/>
          <p:cNvPicPr/>
          <p:nvPr/>
        </p:nvPicPr>
        <p:blipFill>
          <a:blip r:embed="rId2"/>
          <a:stretch/>
        </p:blipFill>
        <p:spPr>
          <a:xfrm>
            <a:off x="4648320" y="1371600"/>
            <a:ext cx="3733560" cy="3855960"/>
          </a:xfrm>
          <a:prstGeom prst="rect">
            <a:avLst/>
          </a:prstGeom>
          <a:ln w="0">
            <a:noFill/>
          </a:ln>
        </p:spPr>
      </p:pic>
      <p:sp>
        <p:nvSpPr>
          <p:cNvPr id="287" name="Title 1"/>
          <p:cNvSpPr/>
          <p:nvPr/>
        </p:nvSpPr>
        <p:spPr>
          <a:xfrm>
            <a:off x="30492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f7f7f"/>
                </a:solidFill>
                <a:latin typeface="Franklin Gothic Book"/>
              </a:rPr>
              <a:t>Design Considerations: </a:t>
            </a:r>
            <a:r>
              <a:rPr b="1" lang="en-US" sz="2300" spc="-1" strike="noStrike">
                <a:solidFill>
                  <a:srgbClr val="000000"/>
                </a:solidFill>
                <a:latin typeface="Franklin Gothic Book"/>
              </a:rPr>
              <a:t>Flexibility in Adjusting Room Press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6"/>
          <p:cNvSpPr/>
          <p:nvPr/>
        </p:nvSpPr>
        <p:spPr>
          <a:xfrm>
            <a:off x="4724280" y="5410080"/>
            <a:ext cx="4191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sure a clean processing environment and prevent contamination of the external environm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7"/>
          <p:cNvSpPr/>
          <p:nvPr/>
        </p:nvSpPr>
        <p:spPr>
          <a:xfrm>
            <a:off x="457200" y="5334120"/>
            <a:ext cx="4191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r exhausts through floor-level vents. Double-wall steel models feature offset exhaust vents to minimize the chance of contamina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8"/>
          <p:cNvSpPr/>
          <p:nvPr/>
        </p:nvSpPr>
        <p:spPr>
          <a:xfrm>
            <a:off x="2590920" y="6400800"/>
            <a:ext cx="457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terrauniversal.com/products/cleanrooms/pharmclroom.ph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9"/>
          <p:cNvSpPr/>
          <p:nvPr/>
        </p:nvSpPr>
        <p:spPr>
          <a:xfrm>
            <a:off x="1676520" y="3581280"/>
            <a:ext cx="5486400" cy="1434600"/>
          </a:xfrm>
          <a:prstGeom prst="rect">
            <a:avLst/>
          </a:prstGeom>
          <a:solidFill>
            <a:srgbClr val="d2e3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nefi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 risk of airborne inf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aster preparedness: pandemic fl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staff and other patient saf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02:05:29Z</dcterms:created>
  <dc:creator>My Ngoc</dc:creator>
  <dc:description/>
  <dc:language>en-US</dc:language>
  <cp:lastModifiedBy>My Ngoc</cp:lastModifiedBy>
  <dcterms:modified xsi:type="dcterms:W3CDTF">2008-10-08T23:54:36Z</dcterms:modified>
  <cp:revision>55</cp:revision>
  <dc:subject/>
  <dc:title>Emergency Department  Universal Ro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62111033</vt:lpwstr>
  </property>
</Properties>
</file>